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9E4-BE95-450E-A9AA-3A289F96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B43-C6D1-402B-B74C-A64122AC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0B0-5A82-482E-8BF1-F5FB04F1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B9A-71CB-48AB-A6CF-453C704B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5C4C-87CA-43E5-8C0F-1DEF634D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D111-E506-406E-8780-CA8766BD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61B3-D95F-4FD6-A08F-276DA52A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2C9D-50AE-4562-9D83-11DC05ED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8AD8-A8A7-4636-AFF2-FDE9000B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A02D-6DCF-40D9-A139-4C30B9BE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88FD-C525-4F93-A843-5671E9D8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396-8562-4528-B2AF-ECCDC8AF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4EC9-4AF1-4041-A2FC-0533D08A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CF0C-53C0-4169-B4C4-FBA45BD2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C256-BABC-4116-B5A7-985A1F98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797E-087B-47A4-B127-78593138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E606-D808-458A-81B7-66694DBC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9D4-9B36-4AED-9CB4-9C144D5F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CB9-9C59-465C-B2EB-A9BBF0F4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2BD-672F-4E1F-96FD-42C16BAB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233-2A3F-4AD2-9D2B-FD7157B0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0BC-0ED4-40D2-B3F8-A1FAADA2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7E4-98EC-42C6-A343-E9527C71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ECD-E21A-49BA-89E8-B883175A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C9E9-0FD7-4949-8428-0563D74789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D9DD-6FE5-4F78-9F00-5A348C69977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althy Living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althy Eat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esented By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ordan Delan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utrition Guideli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althy Eating Pyram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t more vegetable oils and whole grai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at less pasta and white bre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57800" y="2666880"/>
            <a:ext cx="2700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ommended Exerci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0 minutes of daily moderate-intense exerci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isk walk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k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arde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22795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laxation Techni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iet the mind and b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sualize a tranquil set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positive though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ild strength and refresh the bo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e yoga or pil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mprove balance through core trai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602320" y="2362320"/>
            <a:ext cx="2085840" cy="1785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32640" y="4330800"/>
            <a:ext cx="182556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althy Living Benef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s blood pressure and choleste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duces heart disease r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lps prevent diabe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fects 8% of adul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ains body we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lps avoid excess g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2971800"/>
            <a:ext cx="2465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5:07:25Z</dcterms:created>
  <dc:creator>VUFSD</dc:creator>
  <dc:description/>
  <dc:language>en-US</dc:language>
  <cp:lastModifiedBy>VUFSD</cp:lastModifiedBy>
  <dcterms:modified xsi:type="dcterms:W3CDTF">2009-04-17T15:29:26Z</dcterms:modified>
  <cp:revision>2</cp:revision>
  <dc:subject/>
  <dc:title>Healthy Living Healthy Eating</dc:title>
</cp:coreProperties>
</file>